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D8C9-C865-4BF8-B3BE-C49680BAD3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7D85-5AC6-4A8A-B2A6-9691014CFB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8AD9-EB3F-4EE8-AFD9-A9AB1AE2C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E7AD-830D-4688-81CB-8D5A990E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319B-76DE-4CC6-841B-266B15B78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FBAC-ACD0-49B1-A144-96FA13E23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7FCEC-0234-4B67-B174-6CFD15D3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576F3-84E4-418D-8052-B8397540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94963-9EC6-4E1F-85F5-B737335E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5CC3C-2F09-413D-83F6-DB14F6FF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E6301-95D6-4378-B024-4E381076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EED69-F484-43B6-B31E-59345843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1D10D-5197-492C-8660-BC4CC956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EE6D-6A83-4E18-BD62-997E0F3C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95FC2-94F3-49AD-9A7D-F873D3DB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6ABB3-E7D8-4D49-89D3-D5706948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B4745-9E6B-4F24-928D-8713A679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CB7DF-1CF0-4102-A38A-6D72F23A4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C7750-0C22-453A-8D4C-CA9ED0B2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023D97-9A76-44F7-9CB0-E38023045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BEC989-5C9F-48A2-A84E-F5B23DEF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F6F235-3954-49B3-BB8D-819CBFE3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4B2184-78F3-4DD1-BB5A-39787130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453732-EB4A-48F4-8934-67F562C1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8B6A-E39B-4E2B-B72F-C9BEDCE8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6598B9-8D78-4C73-8888-8CC31E9D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7A3F10-3C3D-45C4-8295-9DBA9C4E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9898C1-04E3-4303-9BAD-670B7BBE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97A333-646F-44E7-9B9A-D41A4504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C963EF-3175-4A14-941D-44CF92C5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DAE17A-738E-46E7-A495-4A4594DA5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8F2F57-1274-4D12-B2E3-42F736EB0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37BD28-7838-4BB6-AD5F-BD81D502F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D12F74-9C82-4362-804C-C9D644FE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08F63F-755A-424C-8D83-01A30833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F49F-AD0C-45EF-8420-76CBBF7D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E14D5D-8A0D-4CD2-B27F-5C857BDA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AAC143-C920-42AE-9619-AF15F638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7BAEBF-B273-4870-BAB2-1E653D6E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A71ECD-9959-428F-B1B5-237614B9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A11AA6-51EF-425E-A415-A2721660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11A759-A5EC-4610-98C7-D00E8690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846404-A5E6-49EA-8575-62539E9F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5CDEEA-CD63-4518-B3CE-570E190C3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A657A7-A0DC-420E-B931-03E6AA41B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71984A-21D1-4EC3-A9C8-2379FA2AA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4EEA-0BC1-4430-9A70-5860F30A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9513A8-C597-4519-A6C9-33159295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55A8DF-6F75-4FB5-9D83-8DDD67E5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A60685-7064-494D-81FE-70B75EB3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C79C25-AE79-4B5C-A45C-4706C285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242C52-8469-402C-BB9E-83D785D1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A4755C-2FCA-4989-82BF-E6B797BC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612BC0-29F0-46D5-B388-E3472603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21BF5F-4B49-4675-8EA3-49D563F3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3B4AEF-4A51-4A71-8A99-E4B54E5C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CC3B55-97C0-4132-BFB3-9DAE3280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4BAC-43D2-4D17-A382-6C03EDB7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2CD0A2-A5C9-443C-86C7-79E4CAC4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801B32-E553-4F5C-9F02-3C87FDB08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2EA5E8-7EEB-4F87-93E7-75B4559F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F88CFA-0DD3-4F27-95C8-28C71815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745EE2-65D5-4133-B634-5F1A43F6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6ACB33-43B9-41FB-A3E1-613F9F5B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3B58AD-4D52-4B4D-834E-203FDCB5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90DC92-51AF-45FE-8099-19DF16A7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D9F918-AAFC-4CA5-98F8-44C79239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1ECC9D-6716-4854-AB84-DD04391D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997B-6B45-4ED2-A5BD-4F8C9060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D2DD6C-8365-4E7B-84AD-EB1DAF2F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A66FD9-9AE0-45AD-AA3A-6B3CA35A7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E0C8C4-174C-4AFC-AB4B-3BA1EAF8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37E173-46F6-4361-9A83-2320519A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51579D-C84F-42C5-A0C7-D8407FCB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D114B4-5830-49AD-96A1-EA0CCD61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FBA3B1-F467-44A5-8CD4-ADD3E68C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A19217-7BBF-4E94-A212-B4918E79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C0C590-1F63-4FC0-9CC0-EE9D50E9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77563B-A538-4C0F-91D1-168E49EC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D25A-2820-4509-9649-F1A0969D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AFE590-4CAB-4A8C-B2AA-7A73A8C9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06354B-052D-4B7D-AE5B-610FF314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9E80AC-704B-45C1-9C1D-3432AD3C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2F07BD-A012-4A3B-BDAF-2FC74396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D82653-F828-4A47-B7AE-FFF5EAF32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6EBA3A-0498-4608-B570-03ED7489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314C37-F94E-499B-A2D0-6E0FA634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D2E929-10B4-48B7-9ADA-967DA942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CBAA4F-6899-44EC-B10D-27045570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EA136E-8D9C-4299-95B1-CCD639F3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AF69-E1B5-4EA9-B668-5AD60F71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47D616-9227-4F0B-BD2C-BDBE55E1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A368D1-C15D-4DDE-9485-39F52BA9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CD5C93-0BBF-4036-8999-A42FD441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A5BB7D-5CD5-4C24-B316-1E14B926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BC0DF4-9F2B-43B8-98A9-551F256D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BB7701-ADB2-4E1F-A267-729BB33F6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7E6D6C-5113-4F30-9E9A-55BD2981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6979-7E22-4D0B-AE3E-8DAE66466F4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3F73-5258-434E-9268-5C926104100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A78C-37D4-4DF7-BB3E-A3FCD9D62C7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907D-0949-4FA0-85C3-C056B1278E4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2B93-569E-4ED7-9FD8-A4496242D3A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624C-2CFB-4CA1-8DCE-834BE1942E1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33CE-EB24-4BE0-98FA-9FFF6086260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8BE3-B784-4EDF-BA35-AA46AAA7F98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tti.ru/museum/collections/pic/n4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www.cultinfo.ru/fulltext/1/001/008/089/448.htm" TargetMode="External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WordArt 4"/>
          <p:cNvSpPr txBox="1"/>
          <p:nvPr/>
        </p:nvSpPr>
        <p:spPr>
          <a:xfrm>
            <a:off x="785880" y="3714840"/>
            <a:ext cx="7848360" cy="1784160"/>
          </a:xfrm>
          <a:prstGeom prst="rect">
            <a:avLst/>
          </a:prstGeom>
        </p:spPr>
        <p:txBody>
          <a:bodyPr wrap="none" lIns="90000" rIns="90000" tIns="46800" bIns="46800" anchor="t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8000">
                  <a:solidFill>
                    <a:srgbClr val="c00000"/>
                  </a:solidFill>
                  <a:miter/>
                </a:ln>
                <a:solidFill>
                  <a:srgbClr val="ff6600"/>
                </a:solidFill>
                <a:effectLst>
                  <a:outerShdw dist="23023" dir="7017942" blurRad="0" rotWithShape="0">
                    <a:srgbClr val="000000">
                      <a:alpha val="50000"/>
                    </a:srgbClr>
                  </a:outerShdw>
                </a:effectLst>
                <a:latin typeface="Arabic Transparent"/>
              </a:rPr>
              <a:t>Телеграфная связь</a:t>
            </a:r>
            <a:endParaRPr b="1" lang="en-US" sz="1800" spc="1" strike="noStrike">
              <a:ln w="18000">
                <a:solidFill>
                  <a:srgbClr val="c00000"/>
                </a:solidFill>
                <a:miter/>
              </a:ln>
              <a:solidFill>
                <a:srgbClr val="ff6600"/>
              </a:solidFill>
              <a:effectLst>
                <a:outerShdw dist="23023" dir="7017942" blurRad="0" rotWithShape="0">
                  <a:srgbClr val="000000">
                    <a:alpha val="5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500040" y="5500800"/>
            <a:ext cx="83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f622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1857240" y="1341360"/>
            <a:ext cx="693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1" descr="C:\Documents and Settings\User\Рабочий стол\sibtel-museum-0107.jpg"/>
          <p:cNvPicPr/>
          <p:nvPr/>
        </p:nvPicPr>
        <p:blipFill>
          <a:blip r:embed="rId1"/>
          <a:stretch/>
        </p:blipFill>
        <p:spPr>
          <a:xfrm>
            <a:off x="785880" y="639720"/>
            <a:ext cx="4286160" cy="29685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Gungsuh"/>
                <a:ea typeface="Gungsuh"/>
              </a:rPr>
              <a:t>Телеграфный аппарат Морз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8" name="Picture 10" descr="аппарат Морзе"/>
          <p:cNvPicPr/>
          <p:nvPr/>
        </p:nvPicPr>
        <p:blipFill>
          <a:blip r:embed="rId1"/>
          <a:stretch/>
        </p:blipFill>
        <p:spPr>
          <a:xfrm>
            <a:off x="250920" y="1268280"/>
            <a:ext cx="3749760" cy="2524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439" name="Picture 12" descr="телеграфный аппарат Морзе 1914год"/>
          <p:cNvPicPr/>
          <p:nvPr/>
        </p:nvPicPr>
        <p:blipFill>
          <a:blip r:embed="rId2"/>
          <a:stretch/>
        </p:blipFill>
        <p:spPr>
          <a:xfrm>
            <a:off x="4284720" y="1268280"/>
            <a:ext cx="4680000" cy="2487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94920" y="4194000"/>
            <a:ext cx="828036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В 1837 г. Морзе изобрел телеграфный аппарат. Передатчик аппарата — телеграфный ключ</a:t>
            </a:r>
            <a:r>
              <a:rPr b="0" i="1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, </a:t>
            </a: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приёмник — электромагнит, якорь которого управляет перемещением рычага с пишущим колесиком на конце. Касаясь бумажной ленты, равномерно протягиваемой пружинным часовым механизмом, колесико оставляет на ней прерывистый чернильный след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68360" y="144360"/>
            <a:ext cx="82296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Gungsuh"/>
                <a:ea typeface="Gungsuh"/>
              </a:rPr>
              <a:t>Буквопечатающий 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Gungsuh"/>
                <a:ea typeface="Gungsuh"/>
              </a:rPr>
              <a:t>телеграфный аппара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08000" y="1628640"/>
            <a:ext cx="6192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В 1855 году изобретатель Д.Э. Юз (США) сконструировал буквопечатающий телеграфный аппарат, получивший вскоре широкое применение. Телеграммы по аппарату Юза передавались путем нажатия на соответствующие клавиши, а в пункте приема текст телеграммы отпечатывался на бумажной лент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Аппарат Юза приводился в действие четырехпудовой гирей, которую каждые две минуты телеграфист должен был подымать, нажимая 10-15 раз на ножную педаль. В 1888 году механик Московского телеграфа Сергеев приспособил для поднятия гири электрический моторчик, который включался и выключался в нужные моменты автоматическ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Picture 7" descr="аппарат Юза"/>
          <p:cNvPicPr/>
          <p:nvPr/>
        </p:nvPicPr>
        <p:blipFill>
          <a:blip r:embed="rId1"/>
          <a:stretch/>
        </p:blipFill>
        <p:spPr>
          <a:xfrm>
            <a:off x="6251400" y="1773360"/>
            <a:ext cx="2713320" cy="39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492360" y="259920"/>
            <a:ext cx="5220000" cy="16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Gungsuh"/>
                <a:ea typeface="Gungsuh"/>
              </a:rPr>
              <a:t>Жан Морис Эмиль Бод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248000" y="2060280"/>
            <a:ext cx="4716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В 1874 г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 французский инженер Э.Бодо изобрел аппарат, отличающийся более высокой производительностью по сравнению с телеграфными аппаратами Морзе и Юза. Первые аппараты Б. были введены в эксплуатацию в 1877 на линии Париж — Бордо. В 1927 именем Б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одо</a:t>
            </a: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 была названа единица скорости телеграфирования — бод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6" name="Picture 7" descr="Аппарат Бодо"/>
          <p:cNvPicPr/>
          <p:nvPr/>
        </p:nvPicPr>
        <p:blipFill>
          <a:blip r:embed="rId1"/>
          <a:stretch/>
        </p:blipFill>
        <p:spPr>
          <a:xfrm>
            <a:off x="324000" y="4005360"/>
            <a:ext cx="3671640" cy="2712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447" name="Picture 9" descr="Джон Юз"/>
          <p:cNvPicPr/>
          <p:nvPr/>
        </p:nvPicPr>
        <p:blipFill>
          <a:blip r:embed="rId2"/>
          <a:stretch/>
        </p:blipFill>
        <p:spPr>
          <a:xfrm>
            <a:off x="324000" y="189000"/>
            <a:ext cx="2668320" cy="3557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14400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Gungsuh"/>
                <a:ea typeface="Gungsuh"/>
              </a:rPr>
              <a:t>Прообраз факсимильной связи- телеграфный аппарат Дж. Казелли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0" lang="ru-RU" sz="3600" spc="-1" strike="noStrike">
                <a:solidFill>
                  <a:srgbClr val="c00000"/>
                </a:solidFill>
                <a:latin typeface="Gungsuh"/>
                <a:ea typeface="Gungsuh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Gungsuh"/>
                <a:ea typeface="Gungsuh"/>
              </a:rPr>
              <a:t>186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700000" y="1628640"/>
            <a:ext cx="6443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c00000"/>
                </a:solidFill>
                <a:latin typeface="Gungsuh"/>
                <a:ea typeface="Gungsuh"/>
              </a:rPr>
              <a:t>Потребность передачи по проводам изображений - рисунков, чертежей и текстов, привела к изобретению в 1855 году телеграфного аппарата </a:t>
            </a:r>
            <a:r>
              <a:rPr b="0" lang="ru-RU" sz="1800" spc="-1" strike="noStrike" u="sng">
                <a:solidFill>
                  <a:srgbClr val="c00000"/>
                </a:solidFill>
                <a:uFillTx/>
                <a:latin typeface="Gungsuh"/>
                <a:ea typeface="Gungsuh"/>
              </a:rPr>
              <a:t>Джованни Казелли</a:t>
            </a:r>
            <a:r>
              <a:rPr b="0" lang="ru-RU" sz="1800" spc="-1" strike="noStrike">
                <a:solidFill>
                  <a:srgbClr val="c00000"/>
                </a:solidFill>
                <a:latin typeface="Gungsuh"/>
                <a:ea typeface="Gungsuh"/>
              </a:rPr>
              <a:t>. Передаваемое изображение нужно было начертить на листе оловянной фольги специальными чернилами не проводящими электрический ток, и укрепить на металлической пластине передающего аппарата.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Gungsuh"/>
                <a:ea typeface="Gungsuh"/>
                <a:hlinkClick r:id="rId1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	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c00000"/>
                </a:solidFill>
                <a:latin typeface="Gungsuh"/>
                <a:ea typeface="Gungsuh"/>
              </a:rPr>
              <a:t>На приемном аппарате на такую же пластину укрепляли лист толстой бумаги, пропитанной раствором железосинеродистого калия. Посредством специальных механизмов по изображению и по влажному листу бумаги скользили контактные проволочки, осуществляя развертку изображения по строкам. Когда контактная проволочка на передающем аппарате касалась участков фольги с линиями изображения, по цепи протекал электрический ток, который вызывал электролиз раствора железосинеродистого калия, в результате на бумаге в приемном аппарате воспроизводилась точная копия передаваемого изображе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0" name="Picture 5" descr="C:\Documents and Settings\User\Рабочий стол\obj370_ru.jpg"/>
          <p:cNvPicPr/>
          <p:nvPr/>
        </p:nvPicPr>
        <p:blipFill>
          <a:blip r:embed="rId2"/>
          <a:stretch/>
        </p:blipFill>
        <p:spPr>
          <a:xfrm>
            <a:off x="312840" y="1714680"/>
            <a:ext cx="2530440" cy="4643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Gungsuh"/>
                <a:ea typeface="Gungsuh"/>
              </a:rPr>
              <a:t>Современная связ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51280" y="1152360"/>
            <a:ext cx="507672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2000" spc="-1" strike="noStrike" u="sng">
                <a:solidFill>
                  <a:srgbClr val="c00000"/>
                </a:solidFill>
                <a:uFillTx/>
                <a:latin typeface="Gungsuh"/>
                <a:ea typeface="Gungsuh"/>
              </a:rPr>
              <a:t>Телетап</a:t>
            </a: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 -приёмо-передающий буквопечатающий аппарат </a:t>
            </a:r>
            <a:r>
              <a:rPr b="0" i="1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с </a:t>
            </a: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клавиатурой, как у пишущей машинки. Применяется для передачи по каналам связи на большие расстояния сообщений в виде телеграмм</a:t>
            </a:r>
            <a:r>
              <a:rPr b="0" i="1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,</a:t>
            </a: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 кодограм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2000" spc="-1" strike="noStrike" u="sng">
                <a:solidFill>
                  <a:srgbClr val="c00000"/>
                </a:solidFill>
                <a:uFillTx/>
                <a:latin typeface="Gungsuh"/>
                <a:ea typeface="Gungsuh"/>
              </a:rPr>
              <a:t>Телекс</a:t>
            </a: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 - международная сеть абонентского телеграфирования</a:t>
            </a:r>
            <a:r>
              <a:rPr b="0" i="1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.</a:t>
            </a: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 Объединяет около 100 национальных сетей, оборудованных автоматическими коммутационными станциями «Телекс» с дисковым набором номера</a:t>
            </a:r>
            <a:r>
              <a:rPr b="0" i="1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,</a:t>
            </a: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 охватывает около 600 тысяч абонентов, из которых более половины находится в Европ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3" name="Picture 6" descr="2"/>
          <p:cNvPicPr/>
          <p:nvPr/>
        </p:nvPicPr>
        <p:blipFill>
          <a:blip r:embed="rId1"/>
          <a:stretch/>
        </p:blipFill>
        <p:spPr>
          <a:xfrm>
            <a:off x="179280" y="1557360"/>
            <a:ext cx="3757680" cy="4319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Gungsuh"/>
                <a:ea typeface="Gungsuh"/>
              </a:rPr>
              <a:t>Телеграфный узе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31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Развитие техники телеграфной связи идет по линии дальнейшей автоматизации процессов передачи, приёма и обработки информации, совершенствования телеграфной аппаратуры. Перспективно применение ЭВМ, использование помехоустойчивых канал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7" descr="3"/>
          <p:cNvPicPr/>
          <p:nvPr/>
        </p:nvPicPr>
        <p:blipFill>
          <a:blip r:embed="rId1"/>
          <a:stretch/>
        </p:blipFill>
        <p:spPr>
          <a:xfrm>
            <a:off x="3276720" y="1700280"/>
            <a:ext cx="5699160" cy="4321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C:\Documents and Settings\User\Рабочий стол\kode.jpeg"/>
          <p:cNvPicPr/>
          <p:nvPr/>
        </p:nvPicPr>
        <p:blipFill>
          <a:blip r:embed="rId1"/>
          <a:stretch/>
        </p:blipFill>
        <p:spPr>
          <a:xfrm>
            <a:off x="428760" y="714240"/>
            <a:ext cx="8215200" cy="5699160"/>
          </a:xfrm>
          <a:prstGeom prst="rect">
            <a:avLst/>
          </a:prstGeom>
          <a:ln w="0">
            <a:noFill/>
          </a:ln>
        </p:spPr>
      </p:pic>
      <p:sp>
        <p:nvSpPr>
          <p:cNvPr id="458" name="Прямоугольник 5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ungsuh"/>
                <a:ea typeface="Gungsuh"/>
              </a:rPr>
              <a:t>Современные телеграфные аппар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3" descr="C:\Documents and Settings\User\Рабочий стол\img_0781.jpg"/>
          <p:cNvPicPr/>
          <p:nvPr/>
        </p:nvPicPr>
        <p:blipFill>
          <a:blip r:embed="rId1"/>
          <a:stretch/>
        </p:blipFill>
        <p:spPr>
          <a:xfrm>
            <a:off x="500040" y="341280"/>
            <a:ext cx="8213760" cy="6156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4" descr="C:\Documents and Settings\User\Рабочий стол\567.jpg"/>
          <p:cNvPicPr/>
          <p:nvPr/>
        </p:nvPicPr>
        <p:blipFill>
          <a:blip r:embed="rId1"/>
          <a:stretch/>
        </p:blipFill>
        <p:spPr>
          <a:xfrm>
            <a:off x="531720" y="642960"/>
            <a:ext cx="8080560" cy="5572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Gungsuh"/>
                <a:ea typeface="Gungsuh"/>
              </a:rPr>
              <a:t>История созд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4716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0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Телеграф</a:t>
            </a: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 — старейший вид электрической связи. Она появилась в 30-х гг. 19 в. Начиная с древнейших времён для передачи сообщений пользовались  только неэлектрическими способами телеграфирования (сигнализации) — световым и звуковым. Их недостатки: низкая скорость передачи информации, зависимость от времени суток и погоды, невозможность соблюдать скрытность передачи. Поэтому неэлектрические способы в 70-е гг.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Gungsuh"/>
              </a:rPr>
              <a:t>ХХ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в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ека </a:t>
            </a: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применя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лись</a:t>
            </a: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 крайне редк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1" name="Picture 7" descr="telegraph"/>
          <p:cNvPicPr/>
          <p:nvPr/>
        </p:nvPicPr>
        <p:blipFill>
          <a:blip r:embed="rId1"/>
          <a:stretch/>
        </p:blipFill>
        <p:spPr>
          <a:xfrm>
            <a:off x="4721400" y="1268280"/>
            <a:ext cx="4171680" cy="4753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42" name="Rectangle 8"/>
          <p:cNvSpPr/>
          <p:nvPr/>
        </p:nvSpPr>
        <p:spPr>
          <a:xfrm>
            <a:off x="4788000" y="6021360"/>
            <a:ext cx="4032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Gungsuh"/>
                <a:ea typeface="Gungsuh"/>
              </a:rPr>
              <a:t>Почтово – телеграфная и телефонная кант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ungsuh"/>
                <a:ea typeface="Gungsuh"/>
              </a:rPr>
              <a:t>Работы Шиллин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4" name="Picture 6" descr="шиллинг"/>
          <p:cNvPicPr/>
          <p:nvPr/>
        </p:nvPicPr>
        <p:blipFill>
          <a:blip r:embed="rId1"/>
          <a:stretch/>
        </p:blipFill>
        <p:spPr>
          <a:xfrm>
            <a:off x="5443560" y="1297080"/>
            <a:ext cx="3519360" cy="4724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-360" y="1484280"/>
            <a:ext cx="525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Основы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Gungsuh"/>
              </a:rPr>
              <a:t>телеграфии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в России были заложены работами П. Л.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Gungsuh"/>
              </a:rPr>
              <a:t>Шиллинга</a:t>
            </a:r>
            <a:r>
              <a:rPr b="0" i="1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, </a:t>
            </a: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который в 1832 создал первый практически пригодный комплекс устройств для электрическо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Gungsuh"/>
              </a:rPr>
              <a:t>го</a:t>
            </a: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 телеграфа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 Разработанная Шиллингом система связи использовалась в Великобритании и Германии. В 1836 Шиллинг построил экспериментальную линию телеграфа, проходившую вокруг здания Адмиралтейства в Петербурге. Затем была организована связь Зимнего дворца с Главным штабом и с Главным управлением путей сообщений и публичных зданий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 В 1843 была построена линия— между Петербургом и Царским Селом (25 км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0" descr="аппарат Юза"/>
          <p:cNvPicPr/>
          <p:nvPr/>
        </p:nvPicPr>
        <p:blipFill>
          <a:blip r:embed="rId1"/>
          <a:stretch/>
        </p:blipFill>
        <p:spPr>
          <a:xfrm>
            <a:off x="395280" y="692280"/>
            <a:ext cx="3457440" cy="28080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1" descr="телеграфный ключ"/>
          <p:cNvPicPr/>
          <p:nvPr/>
        </p:nvPicPr>
        <p:blipFill>
          <a:blip r:embed="rId2"/>
          <a:stretch/>
        </p:blipFill>
        <p:spPr>
          <a:xfrm>
            <a:off x="250920" y="3860640"/>
            <a:ext cx="4032000" cy="25927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3995280" y="404640"/>
            <a:ext cx="514836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2000" spc="-1" strike="noStrike" u="sng">
                <a:solidFill>
                  <a:srgbClr val="c00000"/>
                </a:solidFill>
                <a:uFillTx/>
                <a:latin typeface="Gungsuh"/>
                <a:ea typeface="Gungsuh"/>
              </a:rPr>
              <a:t>Телеграфный аппарат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аппарат для передачи и (или) приёма электрических телеграфных сигналов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для осуществления телеграфной связи</a:t>
            </a:r>
            <a:r>
              <a:rPr b="0" i="1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.</a:t>
            </a: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 Первый практически пригодный Т. а. (электромагнитного типа) изобрёл и продемонстрировал в действии (1832) П. Л.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Gungsuh"/>
              </a:rPr>
              <a:t>Шиллинг</a:t>
            </a:r>
            <a:r>
              <a:rPr b="0" i="1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.</a:t>
            </a: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 На ранних этапах развития телеграфии кодированные сообщения передавались клавишным устройством или телеграфным ключом и при приёме фиксировались в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пишущем телеграфном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Gungsuh"/>
                <a:ea typeface="Gungsuh"/>
                <a:hlinkClick r:id="rId3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аппарате в виде ломаной линии либо точек и тире (например, в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Gungsuh"/>
              </a:rPr>
              <a:t>аппарате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Gungsuh"/>
              </a:rPr>
              <a:t>Морзе</a:t>
            </a: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)</a:t>
            </a:r>
            <a:r>
              <a:rPr b="0" i="1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. </a:t>
            </a: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В телеграфном аппарате Уинстона</a:t>
            </a:r>
            <a:r>
              <a:rPr b="0" i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 принимаемые телеграфные сигналы регистрировались на перфорированной бумажной ленте; телеграфн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Gungsuh"/>
              </a:rPr>
              <a:t>ый</a:t>
            </a: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 аппарат Крида мог воспроизводить также и печатные знак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22"/>
          <p:cNvSpPr/>
          <p:nvPr/>
        </p:nvSpPr>
        <p:spPr>
          <a:xfrm>
            <a:off x="684360" y="3573360"/>
            <a:ext cx="38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Gungsuh"/>
                <a:ea typeface="Gungsuh"/>
              </a:rPr>
              <a:t>Аппарат Ю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4"/>
          <p:cNvSpPr/>
          <p:nvPr/>
        </p:nvSpPr>
        <p:spPr>
          <a:xfrm>
            <a:off x="755640" y="6597720"/>
            <a:ext cx="38876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7"/>
          <p:cNvSpPr/>
          <p:nvPr/>
        </p:nvSpPr>
        <p:spPr>
          <a:xfrm>
            <a:off x="684360" y="649116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Gungsuh"/>
                <a:ea typeface="Gungsuh"/>
              </a:rPr>
              <a:t>Телеграфный клю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Gungsuh"/>
                <a:ea typeface="Gungsuh"/>
              </a:rPr>
              <a:t>Принципиальная схема телеграф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0920" y="1599840"/>
            <a:ext cx="2592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1.телеграф-ный ключ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2.электро -магни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3.якор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4.пружин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5.Пишушее колесо, покрытое краск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6.Бумажная лен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72"/>
          <p:cNvSpPr/>
          <p:nvPr/>
        </p:nvSpPr>
        <p:spPr>
          <a:xfrm>
            <a:off x="3786120" y="2928960"/>
            <a:ext cx="228600" cy="114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73"/>
          <p:cNvSpPr/>
          <p:nvPr/>
        </p:nvSpPr>
        <p:spPr>
          <a:xfrm>
            <a:off x="3643200" y="2857680"/>
            <a:ext cx="457200" cy="228600"/>
          </a:xfrm>
          <a:custGeom>
            <a:avLst/>
            <a:gdLst>
              <a:gd name="textAreaLeft" fmla="*/ 0 w 457200"/>
              <a:gd name="textAreaRight" fmla="*/ 457560 w 457200"/>
              <a:gd name="textAreaTop" fmla="*/ 0 h 228600"/>
              <a:gd name="textAreaBottom" fmla="*/ 81720 h 228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76"/>
          <p:cNvSpPr/>
          <p:nvPr/>
        </p:nvSpPr>
        <p:spPr>
          <a:xfrm>
            <a:off x="3857760" y="3643200"/>
            <a:ext cx="0" cy="68580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75"/>
          <p:cNvSpPr/>
          <p:nvPr/>
        </p:nvSpPr>
        <p:spPr>
          <a:xfrm>
            <a:off x="3857760" y="4357800"/>
            <a:ext cx="45720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7"/>
          <p:cNvSpPr/>
          <p:nvPr/>
        </p:nvSpPr>
        <p:spPr>
          <a:xfrm>
            <a:off x="3643200" y="2571840"/>
            <a:ext cx="34308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78"/>
          <p:cNvSpPr/>
          <p:nvPr/>
        </p:nvSpPr>
        <p:spPr>
          <a:xfrm>
            <a:off x="395280" y="727200"/>
            <a:ext cx="920592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88"/>
          <p:cNvGrpSpPr/>
          <p:nvPr/>
        </p:nvGrpSpPr>
        <p:grpSpPr>
          <a:xfrm>
            <a:off x="3143160" y="1643040"/>
            <a:ext cx="7201080" cy="5472000"/>
            <a:chOff x="3143160" y="1643040"/>
            <a:chExt cx="7201080" cy="5472000"/>
          </a:xfrm>
        </p:grpSpPr>
        <p:sp>
          <p:nvSpPr>
            <p:cNvPr id="361" name="AutoShape 152"/>
            <p:cNvSpPr/>
            <p:nvPr/>
          </p:nvSpPr>
          <p:spPr>
            <a:xfrm>
              <a:off x="3143160" y="1643040"/>
              <a:ext cx="7201080" cy="54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51"/>
            <p:cNvSpPr/>
            <p:nvPr/>
          </p:nvSpPr>
          <p:spPr>
            <a:xfrm>
              <a:off x="3475440" y="2063880"/>
              <a:ext cx="0" cy="168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50"/>
            <p:cNvSpPr/>
            <p:nvPr/>
          </p:nvSpPr>
          <p:spPr>
            <a:xfrm rot="20859000">
              <a:off x="3807720" y="3047040"/>
              <a:ext cx="1328760" cy="138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149"/>
            <p:cNvSpPr/>
            <p:nvPr/>
          </p:nvSpPr>
          <p:spPr>
            <a:xfrm rot="10659000">
              <a:off x="4358160" y="2905200"/>
              <a:ext cx="222120" cy="561240"/>
            </a:xfrm>
            <a:prstGeom prst="flowChartManualOperation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48"/>
            <p:cNvSpPr/>
            <p:nvPr/>
          </p:nvSpPr>
          <p:spPr>
            <a:xfrm>
              <a:off x="3807720" y="3466800"/>
              <a:ext cx="1329120" cy="139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47"/>
            <p:cNvSpPr/>
            <p:nvPr/>
          </p:nvSpPr>
          <p:spPr>
            <a:xfrm>
              <a:off x="3807720" y="3466800"/>
              <a:ext cx="110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46"/>
            <p:cNvSpPr/>
            <p:nvPr/>
          </p:nvSpPr>
          <p:spPr>
            <a:xfrm flipV="1">
              <a:off x="3807720" y="3326400"/>
              <a:ext cx="110520" cy="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45"/>
            <p:cNvSpPr/>
            <p:nvPr/>
          </p:nvSpPr>
          <p:spPr>
            <a:xfrm>
              <a:off x="7020720" y="1923480"/>
              <a:ext cx="442800" cy="561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44"/>
            <p:cNvSpPr/>
            <p:nvPr/>
          </p:nvSpPr>
          <p:spPr>
            <a:xfrm>
              <a:off x="8349840" y="1923480"/>
              <a:ext cx="442800" cy="561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43"/>
            <p:cNvSpPr/>
            <p:nvPr/>
          </p:nvSpPr>
          <p:spPr>
            <a:xfrm>
              <a:off x="7796160" y="2625120"/>
              <a:ext cx="221400" cy="28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42"/>
            <p:cNvSpPr/>
            <p:nvPr/>
          </p:nvSpPr>
          <p:spPr>
            <a:xfrm>
              <a:off x="7796160" y="3045960"/>
              <a:ext cx="221400" cy="28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41"/>
            <p:cNvSpPr/>
            <p:nvPr/>
          </p:nvSpPr>
          <p:spPr>
            <a:xfrm>
              <a:off x="6688080" y="3186360"/>
              <a:ext cx="1329120" cy="140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AutoShape 140"/>
            <p:cNvSpPr/>
            <p:nvPr/>
          </p:nvSpPr>
          <p:spPr>
            <a:xfrm rot="10659000">
              <a:off x="7358760" y="3184920"/>
              <a:ext cx="222120" cy="982080"/>
            </a:xfrm>
            <a:prstGeom prst="flowChartManualOperation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139"/>
            <p:cNvSpPr/>
            <p:nvPr/>
          </p:nvSpPr>
          <p:spPr>
            <a:xfrm>
              <a:off x="6688080" y="3326760"/>
              <a:ext cx="110520" cy="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38"/>
            <p:cNvSpPr/>
            <p:nvPr/>
          </p:nvSpPr>
          <p:spPr>
            <a:xfrm>
              <a:off x="6688080" y="3466080"/>
              <a:ext cx="110520" cy="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37"/>
            <p:cNvSpPr/>
            <p:nvPr/>
          </p:nvSpPr>
          <p:spPr>
            <a:xfrm>
              <a:off x="6466680" y="3466800"/>
              <a:ext cx="553680" cy="14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36"/>
            <p:cNvSpPr/>
            <p:nvPr/>
          </p:nvSpPr>
          <p:spPr>
            <a:xfrm>
              <a:off x="6577560" y="3607200"/>
              <a:ext cx="3322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35"/>
            <p:cNvSpPr/>
            <p:nvPr/>
          </p:nvSpPr>
          <p:spPr>
            <a:xfrm>
              <a:off x="6466680" y="4028040"/>
              <a:ext cx="553680" cy="14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34"/>
            <p:cNvSpPr/>
            <p:nvPr/>
          </p:nvSpPr>
          <p:spPr>
            <a:xfrm>
              <a:off x="6355800" y="4168440"/>
              <a:ext cx="1661760" cy="140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33"/>
            <p:cNvSpPr/>
            <p:nvPr/>
          </p:nvSpPr>
          <p:spPr>
            <a:xfrm flipH="1">
              <a:off x="7796520" y="3326760"/>
              <a:ext cx="109800" cy="14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32"/>
            <p:cNvSpPr/>
            <p:nvPr/>
          </p:nvSpPr>
          <p:spPr>
            <a:xfrm>
              <a:off x="7796160" y="3466800"/>
              <a:ext cx="110520" cy="14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31"/>
            <p:cNvSpPr/>
            <p:nvPr/>
          </p:nvSpPr>
          <p:spPr>
            <a:xfrm flipH="1">
              <a:off x="7795800" y="3607200"/>
              <a:ext cx="110520" cy="14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30"/>
            <p:cNvSpPr/>
            <p:nvPr/>
          </p:nvSpPr>
          <p:spPr>
            <a:xfrm>
              <a:off x="7796160" y="3747600"/>
              <a:ext cx="110520" cy="14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29"/>
            <p:cNvSpPr/>
            <p:nvPr/>
          </p:nvSpPr>
          <p:spPr>
            <a:xfrm flipH="1">
              <a:off x="7795800" y="3888000"/>
              <a:ext cx="110520" cy="14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28"/>
            <p:cNvSpPr/>
            <p:nvPr/>
          </p:nvSpPr>
          <p:spPr>
            <a:xfrm>
              <a:off x="7796160" y="4028040"/>
              <a:ext cx="110520" cy="14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27"/>
            <p:cNvSpPr/>
            <p:nvPr/>
          </p:nvSpPr>
          <p:spPr>
            <a:xfrm>
              <a:off x="7353000" y="2484720"/>
              <a:ext cx="442800" cy="28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26"/>
            <p:cNvSpPr/>
            <p:nvPr/>
          </p:nvSpPr>
          <p:spPr>
            <a:xfrm flipV="1">
              <a:off x="8017560" y="2484360"/>
              <a:ext cx="442800" cy="28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25"/>
            <p:cNvSpPr/>
            <p:nvPr/>
          </p:nvSpPr>
          <p:spPr>
            <a:xfrm>
              <a:off x="8460720" y="2063880"/>
              <a:ext cx="221400" cy="28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24"/>
            <p:cNvSpPr/>
            <p:nvPr/>
          </p:nvSpPr>
          <p:spPr>
            <a:xfrm>
              <a:off x="7131240" y="2063880"/>
              <a:ext cx="221400" cy="28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23"/>
            <p:cNvSpPr/>
            <p:nvPr/>
          </p:nvSpPr>
          <p:spPr>
            <a:xfrm>
              <a:off x="3807720" y="3607200"/>
              <a:ext cx="0" cy="11224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122"/>
            <p:cNvSpPr/>
            <p:nvPr/>
          </p:nvSpPr>
          <p:spPr>
            <a:xfrm>
              <a:off x="3807720" y="4729680"/>
              <a:ext cx="44280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121"/>
            <p:cNvSpPr/>
            <p:nvPr/>
          </p:nvSpPr>
          <p:spPr>
            <a:xfrm>
              <a:off x="4250880" y="4589280"/>
              <a:ext cx="0" cy="28044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120"/>
            <p:cNvSpPr/>
            <p:nvPr/>
          </p:nvSpPr>
          <p:spPr>
            <a:xfrm>
              <a:off x="4361760" y="4449240"/>
              <a:ext cx="0" cy="56124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119"/>
            <p:cNvSpPr/>
            <p:nvPr/>
          </p:nvSpPr>
          <p:spPr>
            <a:xfrm>
              <a:off x="4361760" y="4729680"/>
              <a:ext cx="22140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118"/>
            <p:cNvSpPr/>
            <p:nvPr/>
          </p:nvSpPr>
          <p:spPr>
            <a:xfrm>
              <a:off x="4583160" y="4589280"/>
              <a:ext cx="360" cy="28044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117"/>
            <p:cNvSpPr/>
            <p:nvPr/>
          </p:nvSpPr>
          <p:spPr>
            <a:xfrm>
              <a:off x="4694040" y="4449240"/>
              <a:ext cx="360" cy="56124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16"/>
            <p:cNvSpPr/>
            <p:nvPr/>
          </p:nvSpPr>
          <p:spPr>
            <a:xfrm>
              <a:off x="4694040" y="4729680"/>
              <a:ext cx="243720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15"/>
            <p:cNvSpPr/>
            <p:nvPr/>
          </p:nvSpPr>
          <p:spPr>
            <a:xfrm flipV="1">
              <a:off x="7131240" y="3888000"/>
              <a:ext cx="0" cy="8416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14"/>
            <p:cNvSpPr/>
            <p:nvPr/>
          </p:nvSpPr>
          <p:spPr>
            <a:xfrm flipH="1">
              <a:off x="6909480" y="3888000"/>
              <a:ext cx="22140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13"/>
            <p:cNvSpPr/>
            <p:nvPr/>
          </p:nvSpPr>
          <p:spPr>
            <a:xfrm flipV="1">
              <a:off x="6577560" y="3747240"/>
              <a:ext cx="332280" cy="14004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12"/>
            <p:cNvSpPr/>
            <p:nvPr/>
          </p:nvSpPr>
          <p:spPr>
            <a:xfrm flipV="1">
              <a:off x="6577560" y="3606840"/>
              <a:ext cx="332280" cy="14004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11"/>
            <p:cNvSpPr/>
            <p:nvPr/>
          </p:nvSpPr>
          <p:spPr>
            <a:xfrm flipH="1">
              <a:off x="6023520" y="3607200"/>
              <a:ext cx="55368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0"/>
            <p:cNvSpPr/>
            <p:nvPr/>
          </p:nvSpPr>
          <p:spPr>
            <a:xfrm flipV="1">
              <a:off x="4472280" y="2343960"/>
              <a:ext cx="0" cy="56124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09"/>
            <p:cNvSpPr/>
            <p:nvPr/>
          </p:nvSpPr>
          <p:spPr>
            <a:xfrm>
              <a:off x="4472280" y="2344320"/>
              <a:ext cx="155088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08"/>
            <p:cNvSpPr/>
            <p:nvPr/>
          </p:nvSpPr>
          <p:spPr>
            <a:xfrm>
              <a:off x="6023520" y="2344320"/>
              <a:ext cx="0" cy="126252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107"/>
            <p:cNvSpPr/>
            <p:nvPr/>
          </p:nvSpPr>
          <p:spPr>
            <a:xfrm rot="20481600">
              <a:off x="3807720" y="3045600"/>
              <a:ext cx="221400" cy="14004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140040"/>
                <a:gd name="textAreaBottom" fmla="*/ 49680 h 14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06"/>
            <p:cNvSpPr/>
            <p:nvPr/>
          </p:nvSpPr>
          <p:spPr>
            <a:xfrm flipV="1">
              <a:off x="3807720" y="3045600"/>
              <a:ext cx="221400" cy="14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05"/>
            <p:cNvSpPr/>
            <p:nvPr/>
          </p:nvSpPr>
          <p:spPr>
            <a:xfrm>
              <a:off x="3807720" y="31863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04"/>
            <p:cNvSpPr/>
            <p:nvPr/>
          </p:nvSpPr>
          <p:spPr>
            <a:xfrm>
              <a:off x="3475440" y="1783080"/>
              <a:ext cx="0" cy="43495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03"/>
            <p:cNvSpPr/>
            <p:nvPr/>
          </p:nvSpPr>
          <p:spPr>
            <a:xfrm>
              <a:off x="5690520" y="1783080"/>
              <a:ext cx="360" cy="43495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02"/>
            <p:cNvSpPr/>
            <p:nvPr/>
          </p:nvSpPr>
          <p:spPr>
            <a:xfrm>
              <a:off x="3475440" y="1783080"/>
              <a:ext cx="22154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101"/>
            <p:cNvSpPr/>
            <p:nvPr/>
          </p:nvSpPr>
          <p:spPr>
            <a:xfrm>
              <a:off x="3475440" y="6131880"/>
              <a:ext cx="2215440" cy="72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100"/>
            <p:cNvSpPr/>
            <p:nvPr/>
          </p:nvSpPr>
          <p:spPr>
            <a:xfrm>
              <a:off x="5911920" y="1783080"/>
              <a:ext cx="360" cy="43495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99"/>
            <p:cNvSpPr/>
            <p:nvPr/>
          </p:nvSpPr>
          <p:spPr>
            <a:xfrm>
              <a:off x="8903160" y="1783080"/>
              <a:ext cx="360" cy="43495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98"/>
            <p:cNvSpPr/>
            <p:nvPr/>
          </p:nvSpPr>
          <p:spPr>
            <a:xfrm>
              <a:off x="5912640" y="1783080"/>
              <a:ext cx="29912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97"/>
            <p:cNvSpPr/>
            <p:nvPr/>
          </p:nvSpPr>
          <p:spPr>
            <a:xfrm>
              <a:off x="5912640" y="6131880"/>
              <a:ext cx="2991240" cy="72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96"/>
            <p:cNvSpPr/>
            <p:nvPr/>
          </p:nvSpPr>
          <p:spPr>
            <a:xfrm>
              <a:off x="3585960" y="1923480"/>
              <a:ext cx="442800" cy="5612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95"/>
            <p:cNvSpPr/>
            <p:nvPr/>
          </p:nvSpPr>
          <p:spPr>
            <a:xfrm>
              <a:off x="6134400" y="1923480"/>
              <a:ext cx="332280" cy="5612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94"/>
            <p:cNvSpPr/>
            <p:nvPr/>
          </p:nvSpPr>
          <p:spPr>
            <a:xfrm>
              <a:off x="5358600" y="3045960"/>
              <a:ext cx="221400" cy="420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1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93"/>
            <p:cNvSpPr/>
            <p:nvPr/>
          </p:nvSpPr>
          <p:spPr>
            <a:xfrm>
              <a:off x="6023520" y="3747600"/>
              <a:ext cx="221400" cy="42084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0"/>
                  </a:srgbClr>
                </a:gs>
                <a:gs pos="100000">
                  <a:srgbClr val="3b3b3b">
                    <a:alpha val="0"/>
                  </a:srgbClr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92"/>
            <p:cNvSpPr/>
            <p:nvPr/>
          </p:nvSpPr>
          <p:spPr>
            <a:xfrm>
              <a:off x="6577560" y="2625120"/>
              <a:ext cx="332280" cy="420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91"/>
            <p:cNvSpPr/>
            <p:nvPr/>
          </p:nvSpPr>
          <p:spPr>
            <a:xfrm>
              <a:off x="8128440" y="3466800"/>
              <a:ext cx="332280" cy="42084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0"/>
                  </a:srgbClr>
                </a:gs>
                <a:gs pos="100000">
                  <a:srgbClr val="3b3b3b">
                    <a:alpha val="0"/>
                  </a:srgbClr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90"/>
            <p:cNvSpPr/>
            <p:nvPr/>
          </p:nvSpPr>
          <p:spPr>
            <a:xfrm>
              <a:off x="8239320" y="2905560"/>
              <a:ext cx="332280" cy="5612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89"/>
            <p:cNvSpPr/>
            <p:nvPr/>
          </p:nvSpPr>
          <p:spPr>
            <a:xfrm>
              <a:off x="7685280" y="2063880"/>
              <a:ext cx="332280" cy="420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7" descr="Изображение 036"/>
          <p:cNvPicPr/>
          <p:nvPr/>
        </p:nvPicPr>
        <p:blipFill>
          <a:blip r:embed="rId1"/>
          <a:stretch/>
        </p:blipFill>
        <p:spPr>
          <a:xfrm>
            <a:off x="611280" y="260280"/>
            <a:ext cx="7885080" cy="591336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395280" y="6276600"/>
            <a:ext cx="8229600" cy="5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Телеграфный аппарат девятнадцатого в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Gungsuh"/>
                <a:ea typeface="Gungsuh"/>
              </a:rPr>
              <a:t>С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э</a:t>
            </a:r>
            <a:r>
              <a:rPr b="0" lang="ru-RU" sz="4000" spc="-1" strike="noStrike">
                <a:solidFill>
                  <a:srgbClr val="c00000"/>
                </a:solidFill>
                <a:latin typeface="Gungsuh"/>
                <a:ea typeface="Gungsuh"/>
              </a:rPr>
              <a:t>мюэл Морз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4330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Морзе Сэмюэл Финли Бриз, американский художник и изобретатель в области телеграфии. В 1837 изобрёл электромагнитный телеграфный аппарат. В 1838 разработал для него применяющийся до сих пор телеграфный код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 называемый кодом Морзе. Усовершенствованные им телеграфные аппараты были установлены на первой амер. коммерческой телеграфной линии Вашингтон — Балтимор, построенной в 184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Picture 7" descr="morse"/>
          <p:cNvPicPr/>
          <p:nvPr/>
        </p:nvPicPr>
        <p:blipFill>
          <a:blip r:embed="rId1"/>
          <a:stretch/>
        </p:blipFill>
        <p:spPr>
          <a:xfrm>
            <a:off x="5214960" y="1643040"/>
            <a:ext cx="2808360" cy="3954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Азбука Морз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0" y="4076280"/>
            <a:ext cx="9144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Код Морзе или азбука Морзе – неравномерный телеграфный код, где каждая буква и знак представлены определенной комбинацией коротких посылок электрического тока (точек) и элементарных посылок утроенной продолжительности (тире). За единицу времени принимают длительность одной точки, а длительность тире равна трем точкам. Пауза между знаками в букве обозначается одной точкой, между буквами в слове – тремя точками, между словами – семью точками. Для ускорения радиообмена часто используются так называемые </a:t>
            </a:r>
            <a:r>
              <a:rPr b="0" lang="en-US" sz="2000" spc="-1" strike="noStrike">
                <a:solidFill>
                  <a:srgbClr val="c00000"/>
                </a:solidFill>
                <a:latin typeface="Gungsuh"/>
                <a:ea typeface="Gungsuh"/>
              </a:rPr>
              <a:t>Q</a:t>
            </a: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-коды. Они представляют собой аббревиатуры, заменяющие целые фраз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2" name="Object 5"/>
          <p:cNvGraphicFramePr/>
          <p:nvPr/>
        </p:nvGraphicFramePr>
        <p:xfrm>
          <a:off x="973080" y="1052640"/>
          <a:ext cx="7344000" cy="284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3080" y="1052640"/>
                    <a:ext cx="7344000" cy="28461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Gungsuh"/>
                <a:ea typeface="Gungsuh"/>
              </a:rPr>
              <a:t>Аппарат Самуэля Морзе</a:t>
            </a:r>
            <a:r>
              <a:rPr b="0" lang="ru-RU" sz="4400" spc="-1" strike="noStrike">
                <a:solidFill>
                  <a:srgbClr val="c00000"/>
                </a:solidFill>
                <a:latin typeface="Gungsuh"/>
                <a:ea typeface="Gungsuh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lang="ru-RU" sz="3600" spc="-1" strike="noStrike">
                <a:solidFill>
                  <a:srgbClr val="c00000"/>
                </a:solidFill>
                <a:latin typeface="Gungsuh"/>
                <a:ea typeface="Gungsuh"/>
              </a:rPr>
              <a:t>1837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5" name="Picture 4" descr="Аппарат Самуэля Морзе 1837год"/>
          <p:cNvPicPr/>
          <p:nvPr/>
        </p:nvPicPr>
        <p:blipFill>
          <a:blip r:embed="rId1"/>
          <a:stretch/>
        </p:blipFill>
        <p:spPr>
          <a:xfrm>
            <a:off x="684360" y="1225440"/>
            <a:ext cx="3240000" cy="5516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427280" y="1557000"/>
            <a:ext cx="432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c00000"/>
                </a:solidFill>
                <a:latin typeface="Gungsuh"/>
                <a:ea typeface="Gungsuh"/>
              </a:rPr>
              <a:t>Аппарат Морзе представляет собой простейший пружинный механизм протягивающий бумажную ленту, над которой укреплено пишущее перо, которое жестко связано с якорем электромагнита. В момент замыкания электрической цепи перо прижимается к ленте и прочерчивает линию или оставляет точку, в зависимости от того, сколько времени будет замкнута цепь. Замыкание производится телеграфным ключ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Хава</cp:lastModifiedBy>
  <dcterms:modified xsi:type="dcterms:W3CDTF">2022-03-02T07:08:49Z</dcterms:modified>
  <cp:revision>33</cp:revision>
  <dc:subject/>
  <dc:title>PowerPoint Presentation</dc:title>
</cp:coreProperties>
</file>